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55EFB-D5D6-4A87-820B-875BBD183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9DE4E-1C24-4BFE-9257-224A6B2BA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93AA0-444A-46E7-8D96-5EB2E8AF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2D5DE-6E30-4924-93A2-D18C09601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AF71B-9DDA-4E23-BBA6-472E542F4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36258-37F2-40F3-86AB-FF24988EB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5AD80-39B2-4D70-8D55-9E9099DB3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6F8D6-69ED-47C6-B155-A3C3B0087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B7391-26CB-4C5B-9F05-9BC52290C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374D6-D0D3-47A2-BEC0-9891DC9A8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A72A-9877-462A-8ACE-D8947B922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60E1D-7CED-4918-9969-A1089DBE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79E8E-0DCC-449C-9590-AD9040F60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6C53D-2FE4-490D-A273-A5281C9D0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82201-50B0-477D-A4C0-4A7248A51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9EA5D-AC7C-48F5-9CC7-538432C22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8BA2F-4DF1-4889-884F-F3902D05D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A8C47-6D13-4850-8468-AF85691F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70DB-916A-441D-9AF9-7F45CCE0B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20D6-307C-4FB8-B419-FEF30F85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805A6-B375-4BF9-ACCC-E7F035290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CB9D0-0471-4180-84E5-EF5FC5465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B498-B442-45CA-88A7-29E237504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6649-B4CB-4832-9820-91D70CAB7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5442-544C-4AAC-95CC-A98167F2E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211F-15D7-40C7-9287-1FB1CF6C0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c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Literary Theory: An Overview</a:t>
            </a:r>
            <a:endParaRPr b="0" lang="en-US" sz="4400" spc="-1" strike="noStrike">
              <a:solidFill>
                <a:srgbClr val="23005f"/>
              </a:solidFill>
              <a:latin typeface="Futur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derson</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3" name="PlaceHolder 2"/>
          <p:cNvSpPr>
            <a:spLocks noGrp="1"/>
          </p:cNvSpPr>
          <p:nvPr>
            <p:ph/>
          </p:nvPr>
        </p:nvSpPr>
        <p:spPr>
          <a:xfrm>
            <a:off x="228240" y="1905120"/>
            <a:ext cx="8534520" cy="45720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alities must be treated as “phenomena”, as they appear in our mind, and that is as absolute as our knowledge can ever b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ion is reality, and vice versa.</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phenomenology actually viewed all this as concrete, not abstr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5" name="PlaceHolder 2"/>
          <p:cNvSpPr>
            <a:spLocks noGrp="1"/>
          </p:cNvSpPr>
          <p:nvPr>
            <p:ph/>
          </p:nvPr>
        </p:nvSpPr>
        <p:spPr>
          <a:xfrm>
            <a:off x="228600" y="1981080"/>
            <a:ext cx="8229600" cy="464832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linguistic revolution of the 20th century is the assertion that readers create meaning based on their reception of the language.</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literature, focus on the essential meaning of the work, not the language or construction.</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 </a:t>
            </a:r>
            <a:endParaRPr b="0" lang="en-US" sz="4400" spc="-1" strike="noStrike">
              <a:solidFill>
                <a:srgbClr val="23005f"/>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analyzing literature according to this theory, focus on the “reader-response”.  </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be the reader’s progressive movement through a text, analyzing how readers produce meaning by interacting with the text.</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9" name="PlaceHolder 2"/>
          <p:cNvSpPr>
            <a:spLocks noGrp="1"/>
          </p:cNvSpPr>
          <p:nvPr>
            <p:ph/>
          </p:nvPr>
        </p:nvSpPr>
        <p:spPr>
          <a:xfrm>
            <a:off x="380520" y="1980720"/>
            <a:ext cx="8077320" cy="449604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t which is more valid: what the author means, or what the text means to me?</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e free to attach any meaning you want to the text, but what the text authentically “means” must stay within the probabilities of the author’s intention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1" name="PlaceHolder 2"/>
          <p:cNvSpPr>
            <a:spLocks noGrp="1"/>
          </p:cNvSpPr>
          <p:nvPr>
            <p:ph/>
          </p:nvPr>
        </p:nvSpPr>
        <p:spPr>
          <a:xfrm>
            <a:off x="457200" y="1676520"/>
            <a:ext cx="815328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ted in the United States in the 1930s and 40s.  </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incided with a rising emphasis on science and technology; approaches literature scientifically.</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n approaching literature this way, the New Critics were hoping to replace religion (wholly rejected as a guiding force in everyday life) with poet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3"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cused on the parts with the intention of understanding the whole.</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ed works as self-contained aesthetic objects rather than social or historical documents.</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ach each work independently, analyzing irony, paradox, ambiguity, connotation, etc.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5" name="PlaceHolder 2"/>
          <p:cNvSpPr>
            <a:spLocks noGrp="1"/>
          </p:cNvSpPr>
          <p:nvPr>
            <p:ph/>
          </p:nvPr>
        </p:nvSpPr>
        <p:spPr>
          <a:xfrm>
            <a:off x="228600" y="1676520"/>
            <a:ext cx="8686800" cy="487656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at Men approach: literature is created by extraordinary people, and as we decipher a poem’s meaning, we are trying to search for the author’s original meaning.  Every work is essentially autobiographical, a chance for us to obtain a glimpse of a Great Man’s mind.</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7" name="PlaceHolder 2"/>
          <p:cNvSpPr>
            <a:spLocks noGrp="1"/>
          </p:cNvSpPr>
          <p:nvPr>
            <p:ph/>
          </p:nvPr>
        </p:nvSpPr>
        <p:spPr>
          <a:xfrm>
            <a:off x="228600" y="198108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ritics rejected the Great Men system of reading.  </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rted that an author’s intention was irrelevant to the text.  </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ms must be read without concern for context.</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poem to a fetish.</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o read the poem with aloof detachment.</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19" name="PlaceHolder 2"/>
          <p:cNvSpPr>
            <a:spLocks noGrp="1"/>
          </p:cNvSpPr>
          <p:nvPr>
            <p:ph/>
          </p:nvPr>
        </p:nvSpPr>
        <p:spPr>
          <a:xfrm>
            <a:off x="380880" y="1600200"/>
            <a:ext cx="8229600" cy="495288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serts that writing is not a random, self-contained act or series of devices.  Each work -- and all literature as a collective body of work -- is governed by a series of codes, archetypes, myths, and genres that acted as aesthetic “laws”.</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21" name="PlaceHolder 2"/>
          <p:cNvSpPr>
            <a:spLocks noGrp="1"/>
          </p:cNvSpPr>
          <p:nvPr>
            <p:ph/>
          </p:nvPr>
        </p:nvSpPr>
        <p:spPr>
          <a:xfrm>
            <a:off x="304920" y="1981080"/>
            <a:ext cx="815328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hasizes that all meaning is relative and contextual.</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Hut” derives its meaning from its placement between “hovel” and “mansion”.</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errorist” and “freedom fighter” denote the same object but connote different meaning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Why study theory?</a:t>
            </a:r>
            <a:endParaRPr b="0" lang="en-US" sz="4400" spc="-1" strike="noStrike">
              <a:solidFill>
                <a:srgbClr val="23005f"/>
              </a:solidFill>
              <a:latin typeface="Futura"/>
            </a:endParaRPr>
          </a:p>
        </p:txBody>
      </p:sp>
      <p:sp>
        <p:nvSpPr>
          <p:cNvPr id="8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f literature matters today, it is chiefly because it seems to many conventional critics one of the few remaining places where, in a divided, fragmented world, a sense of universal value may still be incarnate; and where, in a sordidly material world, a rare glimpse of transcendence can still be attained.</a:t>
            </a:r>
            <a:endParaRPr b="0" lang="en-US" sz="3600" spc="-1" strike="noStrike">
              <a:solidFill>
                <a:srgbClr val="000000"/>
              </a:solidFill>
              <a:latin typeface="Arial"/>
            </a:endParaRPr>
          </a:p>
          <a:p>
            <a:pPr lvl="1" marL="743040" indent="-28584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Eaglet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s from the particular to the general; commentary focuses on how a work fits into a greater schema.</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im of structuralism is to arrive at a sense of unity.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VERY basic terms, structuralism is “happy”!  It recognizes the relativity of language but does not despair, and it seeks to critique language anyway.  In such criticism, language arrives at something unified and harmonious.</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27" name="PlaceHolder 2"/>
          <p:cNvSpPr>
            <a:spLocks noGrp="1"/>
          </p:cNvSpPr>
          <p:nvPr>
            <p:ph/>
          </p:nvPr>
        </p:nvSpPr>
        <p:spPr>
          <a:xfrm>
            <a:off x="457200" y="1600200"/>
            <a:ext cx="8153280" cy="495288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 derived from post-structuralism.</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nstructionists begin with structuralist theory but then move beyond it and rebel against it.</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nstruction occurred immediately after – and then alongside – structuralism.</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29"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re are no facts; only perception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Friedrich Nietzsch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1" name="PlaceHolder 2"/>
          <p:cNvSpPr>
            <a:spLocks noGrp="1"/>
          </p:cNvSpPr>
          <p:nvPr>
            <p:ph/>
          </p:nvPr>
        </p:nvSpPr>
        <p:spPr>
          <a:xfrm>
            <a:off x="456840" y="1752480"/>
            <a:ext cx="8001000" cy="510552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ques Derrida created the concept and coined the term </a:t>
            </a:r>
            <a:r>
              <a:rPr b="0" i="1" lang="en-US" sz="3200" spc="-1" strike="noStrike">
                <a:solidFill>
                  <a:srgbClr val="000000"/>
                </a:solidFill>
                <a:latin typeface="Arial"/>
              </a:rPr>
              <a:t>deconstruc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ed that Western culture LOVES them some binary sets: black vs. white, feminine vs. masculine, et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inary sets imply a hierarchy and mutually exclusive relationships.</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nstruction erases the boundary between these 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3" name="PlaceHolder 2"/>
          <p:cNvSpPr>
            <a:spLocks noGrp="1"/>
          </p:cNvSpPr>
          <p:nvPr>
            <p:ph/>
          </p:nvPr>
        </p:nvSpPr>
        <p:spPr>
          <a:xfrm>
            <a:off x="380520" y="1981080"/>
            <a:ext cx="80773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ues that if language really is relative and arbitrary, and there are no fixed points for reference, then all language and meaning is essentially one hot mess.</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live in a “decentered” universe in which language and meaning have free play.</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for shifts and breaks at various levels of the work.  Read “against the grain” so that the text “betrays” itself.  A deconstructionist triumphantly finds ways in which an author accidentally contradicts himself so that meaning breaks down.</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7" name="PlaceHolder 2"/>
          <p:cNvSpPr>
            <a:spLocks noGrp="1"/>
          </p:cNvSpPr>
          <p:nvPr>
            <p:ph/>
          </p:nvPr>
        </p:nvSpPr>
        <p:spPr>
          <a:xfrm>
            <a:off x="380520" y="1981080"/>
            <a:ext cx="8077320" cy="472464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very basic terms, deconstruction reveals anxieties about language and seeks to find disunity in the text that reflects disunity in our exist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on structuralism and deconstruction in another power point!</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sychoanalysis</a:t>
            </a:r>
            <a:endParaRPr b="0" lang="en-US" sz="4400" spc="-1" strike="noStrike">
              <a:solidFill>
                <a:srgbClr val="23005f"/>
              </a:solidFill>
              <a:latin typeface="Futura"/>
            </a:endParaRPr>
          </a:p>
        </p:txBody>
      </p:sp>
      <p:sp>
        <p:nvSpPr>
          <p:cNvPr id="139" name="PlaceHolder 2"/>
          <p:cNvSpPr>
            <a:spLocks noGrp="1"/>
          </p:cNvSpPr>
          <p:nvPr>
            <p:ph/>
          </p:nvPr>
        </p:nvSpPr>
        <p:spPr>
          <a:xfrm>
            <a:off x="380880" y="1904760"/>
            <a:ext cx="8382240" cy="464796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ed by everybody’s favorite phallus-obsessed psychiatrist.</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cuses on a meta-language in which the reader seeks out “what’s really going on” in the tex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odernism</a:t>
            </a:r>
            <a:endParaRPr b="0" lang="en-US" sz="4400" spc="-1" strike="noStrike">
              <a:solidFill>
                <a:srgbClr val="23005f"/>
              </a:solidFill>
              <a:latin typeface="Futur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llel movements in fine arts: Dadaism, Cubism, Surrealism.</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literature, a rejection of traditional realism in favor of experimentation.</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High modernism”, 1910-1930.</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roaching Theory</a:t>
            </a:r>
            <a:endParaRPr b="0" lang="en-US" sz="4400" spc="-1" strike="noStrike">
              <a:solidFill>
                <a:srgbClr val="23005f"/>
              </a:solidFill>
              <a:latin typeface="Futura"/>
            </a:endParaRPr>
          </a:p>
        </p:txBody>
      </p:sp>
      <p:sp>
        <p:nvSpPr>
          <p:cNvPr id="8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theories we will study will be entirely satisfactory to you.</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the theorists themselves cling steadfastly to their respective approaches, we have the luxury of “window-shopping” lots of ‘em.</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bits and pieces of differing theories into your own developing philosophies of literature and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odernism</a:t>
            </a:r>
            <a:endParaRPr b="0" lang="en-US" sz="4400" spc="-1" strike="noStrike">
              <a:solidFill>
                <a:srgbClr val="23005f"/>
              </a:solidFill>
              <a:latin typeface="Futura"/>
            </a:endParaRPr>
          </a:p>
        </p:txBody>
      </p:sp>
      <p:sp>
        <p:nvSpPr>
          <p:cNvPr id="143" name="PlaceHolder 2"/>
          <p:cNvSpPr>
            <a:spLocks noGrp="1"/>
          </p:cNvSpPr>
          <p:nvPr>
            <p:ph/>
          </p:nvPr>
        </p:nvSpPr>
        <p:spPr>
          <a:xfrm>
            <a:off x="533160" y="1980720"/>
            <a:ext cx="7924680" cy="449604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mphasis on impressionism and subjectivity; HOW we see it is more important than WHAT we se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away from devices that convey objectivity, such as omniscient 3rd person narration, clear-cut moral conclusions.</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ffinity for fragmented forms</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odernism</a:t>
            </a:r>
            <a:endParaRPr b="0" lang="en-US" sz="4400" spc="-1" strike="noStrike">
              <a:solidFill>
                <a:srgbClr val="23005f"/>
              </a:solidFill>
              <a:latin typeface="Futur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 is self-conscious and nostalgi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its fragmentation, celebrates a by-gone era when circumstances precipitated continuity in form and styl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ments its own fragmentation; in simplest terms, modernism is “sad”.</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modernism</a:t>
            </a:r>
            <a:endParaRPr b="0" lang="en-US" sz="4400" spc="-1" strike="noStrike">
              <a:solidFill>
                <a:srgbClr val="23005f"/>
              </a:solidFill>
              <a:latin typeface="Futura"/>
            </a:endParaRPr>
          </a:p>
        </p:txBody>
      </p:sp>
      <p:sp>
        <p:nvSpPr>
          <p:cNvPr id="147" name="PlaceHolder 2"/>
          <p:cNvSpPr>
            <a:spLocks noGrp="1"/>
          </p:cNvSpPr>
          <p:nvPr>
            <p:ph/>
          </p:nvPr>
        </p:nvSpPr>
        <p:spPr>
          <a:xfrm>
            <a:off x="380880" y="1981080"/>
            <a:ext cx="830592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implest terms, is “happy”.</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a subsequent, chronological step; co-existed with modernism and demonstrates a shift in attitude.</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modernism was ascetic (hence ugly box-shaped houses), postmodernism did not distinguish between “high” culture and pop culture.  Celebrated gaudin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modernism</a:t>
            </a:r>
            <a:endParaRPr b="0" lang="en-US" sz="4400" spc="-1" strike="noStrike">
              <a:solidFill>
                <a:srgbClr val="23005f"/>
              </a:solidFill>
              <a:latin typeface="Futura"/>
            </a:endParaRPr>
          </a:p>
        </p:txBody>
      </p:sp>
      <p:sp>
        <p:nvSpPr>
          <p:cNvPr id="14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udrillard examined a “hyperreality”, or the “loss of the real”.  (Martin Scorsese capitalized on this concept in </a:t>
            </a:r>
            <a:r>
              <a:rPr b="0" i="1" lang="en-US" sz="3200" spc="-1" strike="noStrike">
                <a:solidFill>
                  <a:srgbClr val="000000"/>
                </a:solidFill>
                <a:latin typeface="Arial"/>
              </a:rPr>
              <a:t>Gangs of New York</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vasive influences of TV, film, other media have blurred the lines between reality and illusion, surface and depth.</a:t>
            </a:r>
            <a:endParaRPr b="0" lang="en-US" sz="3200" spc="-1" strike="noStrike">
              <a:solidFill>
                <a:srgbClr val="000000"/>
              </a:solidFill>
              <a:latin typeface="Arial"/>
            </a:endParaRPr>
          </a:p>
          <a:p>
            <a:pPr marL="339480" indent="-3394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semiotics, a sign is recognized as such, with an unclear connection to the reality of the signified.  Ex: Disneyland IS reality.</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modernism</a:t>
            </a:r>
            <a:endParaRPr b="0" lang="en-US" sz="4400" spc="-1" strike="noStrike">
              <a:solidFill>
                <a:srgbClr val="23005f"/>
              </a:solidFill>
              <a:latin typeface="Futur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intertextuality -- the close relationship between several works, seen through allusion, parody, et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irony.</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Historicism</a:t>
            </a:r>
            <a:endParaRPr b="0" lang="en-US" sz="4400" spc="-1" strike="noStrike">
              <a:solidFill>
                <a:srgbClr val="23005f"/>
              </a:solidFill>
              <a:latin typeface="Futura"/>
            </a:endParaRPr>
          </a:p>
        </p:txBody>
      </p:sp>
      <p:sp>
        <p:nvSpPr>
          <p:cNvPr id="153" name="PlaceHolder 2"/>
          <p:cNvSpPr>
            <a:spLocks noGrp="1"/>
          </p:cNvSpPr>
          <p:nvPr>
            <p:ph/>
          </p:nvPr>
        </p:nvSpPr>
        <p:spPr>
          <a:xfrm>
            <a:off x="456840" y="1676520"/>
            <a:ext cx="80010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a parallel reading of literary and historical texts from the same period; puts both forms on equal footing</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s the more traditional approach of using historical texts as a backdrop for literature.</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 is not simply a reflection of the economic and political system, but it cannot be independent from those systems.</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colonialism</a:t>
            </a:r>
            <a:endParaRPr b="0" lang="en-US" sz="4400" spc="-1" strike="noStrike">
              <a:solidFill>
                <a:srgbClr val="23005f"/>
              </a:solidFill>
              <a:latin typeface="Futur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mines the “universal” standard for judging the greatness of literature, as “universal” inevitably leads to dead-European/white-male perspectiv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ect of Orientalism was to place everything “other” in an inferior position.  At the same time, the East became the repository for the West’s hidden self…</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colonialism</a:t>
            </a:r>
            <a:endParaRPr b="0" lang="en-US" sz="4400" spc="-1" strike="noStrike">
              <a:solidFill>
                <a:srgbClr val="23005f"/>
              </a:solidFill>
              <a:latin typeface="Futura"/>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ojected human cruelty, indulgence, laziness, and sensuality onto the “Orient”.</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the West was fascinated by the East and perceived it as exotic, mystical, and seductiv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colonialism</a:t>
            </a:r>
            <a:endParaRPr b="0" lang="en-US" sz="4400" spc="-1" strike="noStrike">
              <a:solidFill>
                <a:srgbClr val="23005f"/>
              </a:solidFill>
              <a:latin typeface="Futur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s of postcolonialism writing:</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 begin with an unquestioning acceptance of European model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adapt Western form to Eastern subject matter.</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PT: reject Western forms and return to more “native”pre-colonial forms.</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1" name="PlaceHolder 2"/>
          <p:cNvSpPr>
            <a:spLocks noGrp="1"/>
          </p:cNvSpPr>
          <p:nvPr>
            <p:ph/>
          </p:nvPr>
        </p:nvSpPr>
        <p:spPr>
          <a:xfrm>
            <a:off x="304920" y="1981080"/>
            <a:ext cx="81532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asic tenets of Marxism:</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ed by Karl Marx and Friedrich Engel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d themselves “Communists” instead of “Marxist” in particular.</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ed state ownership vs. private ownershi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One last thought before we begin…</a:t>
            </a:r>
            <a:endParaRPr b="0" lang="en-US" sz="4400" spc="-1" strike="noStrike">
              <a:solidFill>
                <a:srgbClr val="23005f"/>
              </a:solidFill>
              <a:latin typeface="Futura"/>
            </a:endParaRPr>
          </a:p>
        </p:txBody>
      </p:sp>
      <p:sp>
        <p:nvSpPr>
          <p:cNvPr id="91" name="PlaceHolder 2"/>
          <p:cNvSpPr>
            <a:spLocks noGrp="1"/>
          </p:cNvSpPr>
          <p:nvPr>
            <p:ph/>
          </p:nvPr>
        </p:nvSpPr>
        <p:spPr>
          <a:xfrm>
            <a:off x="304560" y="1981080"/>
            <a:ext cx="8381880" cy="472464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erary theory is not a disembodied set of ideas but a force in institutions.  Theory exists in communities of readers and writers, as a discursive practice, inextricably entangled with educational and cultural institutions.</a:t>
            </a:r>
            <a:endParaRPr b="0" lang="en-US" sz="3600" spc="-1" strike="noStrike">
              <a:solidFill>
                <a:srgbClr val="000000"/>
              </a:solidFill>
              <a:latin typeface="Arial"/>
            </a:endParaRPr>
          </a:p>
          <a:p>
            <a:pPr lvl="1" marL="743040" indent="-28584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Culler</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3" name="PlaceHolder 2"/>
          <p:cNvSpPr>
            <a:spLocks noGrp="1"/>
          </p:cNvSpPr>
          <p:nvPr>
            <p:ph/>
          </p:nvPr>
        </p:nvSpPr>
        <p:spPr>
          <a:xfrm>
            <a:off x="457200" y="1676520"/>
            <a:ext cx="8153280" cy="495288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a:t>
            </a:r>
            <a:r>
              <a:rPr b="0" i="1" lang="en-US" sz="3200" spc="-1" strike="noStrike">
                <a:solidFill>
                  <a:srgbClr val="000000"/>
                </a:solidFill>
                <a:latin typeface="Arial"/>
              </a:rPr>
              <a:t>materialist</a:t>
            </a:r>
            <a:r>
              <a:rPr b="0" lang="en-US" sz="3200" spc="-1" strike="noStrike">
                <a:solidFill>
                  <a:srgbClr val="000000"/>
                </a:solidFill>
                <a:latin typeface="Arial"/>
              </a:rPr>
              <a:t> theory: looks for concrete, observable facts to determine the limits of reality, as opposed to…</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dealist</a:t>
            </a:r>
            <a:r>
              <a:rPr b="0" lang="en-US" sz="3200" spc="-1" strike="noStrike">
                <a:solidFill>
                  <a:srgbClr val="000000"/>
                </a:solidFill>
                <a:latin typeface="Arial"/>
              </a:rPr>
              <a:t> philosophy: believes in another, spiritual world, as part of reality.</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comes about through class struggle.  History should be measured this way instead of as a series of dynasties or as a progression toward sovereignty.</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se</a:t>
            </a:r>
            <a:r>
              <a:rPr b="0" lang="en-US" sz="3200" spc="-1" strike="noStrike">
                <a:solidFill>
                  <a:srgbClr val="000000"/>
                </a:solidFill>
                <a:latin typeface="Arial"/>
              </a:rPr>
              <a:t>: material means of production, distribution, exchang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uperstructure</a:t>
            </a:r>
            <a:r>
              <a:rPr b="0" lang="en-US" sz="3200" spc="-1" strike="noStrike">
                <a:solidFill>
                  <a:srgbClr val="000000"/>
                </a:solidFill>
                <a:latin typeface="Arial"/>
              </a:rPr>
              <a:t>: “cultural” world of arts, religion, law, etc.  </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conomic determinism</a:t>
            </a:r>
            <a:r>
              <a:rPr b="0" lang="en-US" sz="3200" spc="-1" strike="noStrike">
                <a:solidFill>
                  <a:srgbClr val="000000"/>
                </a:solidFill>
                <a:latin typeface="Arial"/>
              </a:rPr>
              <a:t>: the belief that the base dictates the nature of the superstructure.</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7" name="PlaceHolder 2"/>
          <p:cNvSpPr>
            <a:spLocks noGrp="1"/>
          </p:cNvSpPr>
          <p:nvPr>
            <p:ph/>
          </p:nvPr>
        </p:nvSpPr>
        <p:spPr>
          <a:xfrm>
            <a:off x="380520" y="1980720"/>
            <a:ext cx="807732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genius doesn’t really exist: artists and their works are formed by their social context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s hijacked Marxism; Lenin insisted that literature must be an instrument of the Party.</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iterature became propaganda; literary complexity couldn’t rise above an </a:t>
            </a:r>
            <a:r>
              <a:rPr b="0" i="1" lang="en-US" sz="3200" spc="-1" strike="noStrike">
                <a:solidFill>
                  <a:srgbClr val="000000"/>
                </a:solidFill>
                <a:latin typeface="Arial"/>
              </a:rPr>
              <a:t>Uncle Tom’s Cabin</a:t>
            </a:r>
            <a:r>
              <a:rPr b="0" lang="en-US" sz="3200" spc="-1" strike="noStrike">
                <a:solidFill>
                  <a:srgbClr val="000000"/>
                </a:solidFill>
                <a:latin typeface="Arial"/>
              </a:rPr>
              <a:t> level.</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9" name="PlaceHolder 2"/>
          <p:cNvSpPr>
            <a:spLocks noGrp="1"/>
          </p:cNvSpPr>
          <p:nvPr>
            <p:ph/>
          </p:nvPr>
        </p:nvSpPr>
        <p:spPr>
          <a:xfrm>
            <a:off x="380880" y="1981080"/>
            <a:ext cx="838224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adaptations of Marxism:</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usser identifies </a:t>
            </a:r>
            <a:r>
              <a:rPr b="0" i="1" lang="en-US" sz="3200" spc="-1" strike="noStrike">
                <a:solidFill>
                  <a:srgbClr val="000000"/>
                </a:solidFill>
                <a:latin typeface="Arial"/>
              </a:rPr>
              <a:t>repressive structures: </a:t>
            </a:r>
            <a:r>
              <a:rPr b="0" lang="en-US" sz="3200" spc="-1" strike="noStrike">
                <a:solidFill>
                  <a:srgbClr val="000000"/>
                </a:solidFill>
                <a:latin typeface="Arial"/>
              </a:rPr>
              <a:t>institutions like law courts, police forces, etc. that impose state control by external force.</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t>
            </a:r>
            <a:r>
              <a:rPr b="0" i="1" lang="en-US" sz="3200" spc="-1" strike="noStrike">
                <a:solidFill>
                  <a:srgbClr val="000000"/>
                </a:solidFill>
                <a:latin typeface="Arial"/>
              </a:rPr>
              <a:t>ideological structures</a:t>
            </a:r>
            <a:r>
              <a:rPr b="0" lang="en-US" sz="3200" spc="-1" strike="noStrike">
                <a:solidFill>
                  <a:srgbClr val="000000"/>
                </a:solidFill>
                <a:latin typeface="Arial"/>
              </a:rPr>
              <a:t>: maintain state control through political parties, schools, churches, and the ar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gemony</a:t>
            </a:r>
            <a:r>
              <a:rPr b="0" lang="en-US" sz="3200" spc="-1" strike="noStrike">
                <a:solidFill>
                  <a:srgbClr val="000000"/>
                </a:solidFill>
                <a:latin typeface="Arial"/>
              </a:rPr>
              <a:t>: internalized form of social control that make certain views seem “natural”, invisible, the way things ar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us feel like free agents with the ability to choose and determine our lives.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t theory</a:t>
            </a:r>
            <a:endParaRPr b="0" lang="en-US" sz="4400" spc="-1" strike="noStrike">
              <a:solidFill>
                <a:srgbClr val="23005f"/>
              </a:solidFill>
              <a:latin typeface="Futur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hink the canon, “rediscover” feminine text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literary representations of “other”.</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out </a:t>
            </a:r>
            <a:r>
              <a:rPr b="0" i="1" lang="en-US" sz="3200" spc="-1" strike="noStrike">
                <a:solidFill>
                  <a:srgbClr val="000000"/>
                </a:solidFill>
                <a:latin typeface="Arial"/>
              </a:rPr>
              <a:t>patriarchy</a:t>
            </a:r>
            <a:r>
              <a:rPr b="0" lang="en-US" sz="3200" spc="-1" strike="noStrike">
                <a:solidFill>
                  <a:srgbClr val="000000"/>
                </a:solidFill>
                <a:latin typeface="Arial"/>
              </a:rPr>
              <a:t> in literature: politically and socially aimed connotations that perpetuate a male outlook on the world.</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t theory</a:t>
            </a:r>
            <a:endParaRPr b="0" lang="en-US" sz="4400" spc="-1" strike="noStrike">
              <a:solidFill>
                <a:srgbClr val="23005f"/>
              </a:solidFill>
              <a:latin typeface="Futur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minine phase</a:t>
            </a:r>
            <a:r>
              <a:rPr b="0" lang="en-US" sz="3200" spc="-1" strike="noStrike">
                <a:solidFill>
                  <a:srgbClr val="000000"/>
                </a:solidFill>
                <a:latin typeface="Arial"/>
              </a:rPr>
              <a:t>: women writers imitated dominant male artistic form and styl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minist phase</a:t>
            </a:r>
            <a:r>
              <a:rPr b="0" lang="en-US" sz="3200" spc="-1" strike="noStrike">
                <a:solidFill>
                  <a:srgbClr val="000000"/>
                </a:solidFill>
                <a:latin typeface="Arial"/>
              </a:rPr>
              <a:t>: radical and separatist positions dominate women’s writing.</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male phase</a:t>
            </a:r>
            <a:r>
              <a:rPr b="0" lang="en-US" sz="3200" spc="-1" strike="noStrike">
                <a:solidFill>
                  <a:srgbClr val="000000"/>
                </a:solidFill>
                <a:latin typeface="Arial"/>
              </a:rPr>
              <a:t>: focuses on female writing and the female experience.</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t theory </a:t>
            </a:r>
            <a:endParaRPr b="0" lang="en-US" sz="4400" spc="-1" strike="noStrike">
              <a:solidFill>
                <a:srgbClr val="23005f"/>
              </a:solidFill>
              <a:latin typeface="Futur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le” language is prose: more linear, didactic, structured.</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emale” language is poetry: more fluid, flexible, changing.</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read and write through symbolism; women read and write through semiotics.</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m + Psychoanalysis</a:t>
            </a:r>
            <a:endParaRPr b="0" lang="en-US" sz="4400" spc="-1" strike="noStrike">
              <a:solidFill>
                <a:srgbClr val="23005f"/>
              </a:solidFill>
              <a:latin typeface="Futur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fines Freud’s penis envy.</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minist critics argue that the envy isn’t for the organ itself (or even the symbolic nature of it) but for the varieties of power it represents (the semiotics).</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identity is a cultural construct. </a:t>
            </a:r>
            <a:r>
              <a:rPr b="0" i="1" lang="en-US" sz="3200" spc="-1" strike="noStrike">
                <a:solidFill>
                  <a:srgbClr val="000000"/>
                </a:solidFill>
                <a:latin typeface="Arial"/>
              </a:rPr>
              <a:t>Female</a:t>
            </a:r>
            <a:r>
              <a:rPr b="0" lang="en-US" sz="3200" spc="-1" strike="noStrike">
                <a:solidFill>
                  <a:srgbClr val="000000"/>
                </a:solidFill>
                <a:latin typeface="Arial"/>
              </a:rPr>
              <a:t> is biological; </a:t>
            </a:r>
            <a:r>
              <a:rPr b="0" i="1" lang="en-US" sz="3200" spc="-1" strike="noStrike">
                <a:solidFill>
                  <a:srgbClr val="000000"/>
                </a:solidFill>
                <a:latin typeface="Arial"/>
              </a:rPr>
              <a:t>feminine</a:t>
            </a:r>
            <a:r>
              <a:rPr b="0" lang="en-US" sz="3200" spc="-1" strike="noStrike">
                <a:solidFill>
                  <a:srgbClr val="000000"/>
                </a:solidFill>
                <a:latin typeface="Arial"/>
              </a:rPr>
              <a:t> is social.</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Lesbian/Gay Criticism</a:t>
            </a:r>
            <a:endParaRPr b="0" lang="en-US" sz="4400" spc="-1" strike="noStrike">
              <a:solidFill>
                <a:srgbClr val="23005f"/>
              </a:solidFill>
              <a:latin typeface="Futura"/>
            </a:endParaRPr>
          </a:p>
        </p:txBody>
      </p:sp>
      <p:sp>
        <p:nvSpPr>
          <p:cNvPr id="181" name="PlaceHolder 2"/>
          <p:cNvSpPr>
            <a:spLocks noGrp="1"/>
          </p:cNvSpPr>
          <p:nvPr>
            <p:ph/>
          </p:nvPr>
        </p:nvSpPr>
        <p:spPr>
          <a:xfrm>
            <a:off x="380880" y="1676520"/>
            <a:ext cx="8382240" cy="495288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point, lesbian criticism is simply an extension of feminist criticism.</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y criticism, commonly called “queer theory”, looks for gay episodes in mainstream works; redefining cults of friendship in literature.  (Look at WWI poetry again.)</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phorically “gay” reading of literature connotes any blurring of social boundari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ormalism</a:t>
            </a:r>
            <a:endParaRPr b="0" lang="en-US" sz="4400" spc="-1" strike="noStrike">
              <a:solidFill>
                <a:srgbClr val="23005f"/>
              </a:solidFill>
              <a:latin typeface="Futura"/>
            </a:endParaRPr>
          </a:p>
        </p:txBody>
      </p:sp>
      <p:sp>
        <p:nvSpPr>
          <p:cNvPr id="93" name="PlaceHolder 2"/>
          <p:cNvSpPr>
            <a:spLocks noGrp="1"/>
          </p:cNvSpPr>
          <p:nvPr>
            <p:ph/>
          </p:nvPr>
        </p:nvSpPr>
        <p:spPr>
          <a:xfrm>
            <a:off x="380520" y="1980720"/>
            <a:ext cx="8077320" cy="449604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in origin; emerged in the years immediately preceding the Bolshevik Revolution in 1917, flourished in the 1920s until Stalin shut ‘em up.</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take into account feelings, ideas, social realities, et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the objective “parts” of language, like a machine.</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Guess what…</a:t>
            </a:r>
            <a:endParaRPr b="0" lang="en-US" sz="4400" spc="-1" strike="noStrike">
              <a:solidFill>
                <a:srgbClr val="23005f"/>
              </a:solidFill>
              <a:latin typeface="Futur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s ov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ormalism</a:t>
            </a:r>
            <a:endParaRPr b="0" lang="en-US" sz="4400" spc="-1" strike="noStrike">
              <a:solidFill>
                <a:srgbClr val="23005f"/>
              </a:solidFill>
              <a:latin typeface="Futura"/>
            </a:endParaRPr>
          </a:p>
        </p:txBody>
      </p:sp>
      <p:sp>
        <p:nvSpPr>
          <p:cNvPr id="95"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ed literature according to its use of “devices” -- sound, rhythm, imagery, syntax, meter, rhyme, etc -- and their ability to “estrange” the language.  </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rangement = the ability to draw attention to the language itself and make the everyday seem unfamiliar.</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ormalism</a:t>
            </a:r>
            <a:endParaRPr b="0" lang="en-US" sz="4400" spc="-1" strike="noStrike">
              <a:solidFill>
                <a:srgbClr val="23005f"/>
              </a:solidFill>
              <a:latin typeface="Futur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Fine” writing is “strange” writing.</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ies linguistics to literatur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nded in the wake of WWI by Edmund Husserl.</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jected the “natural attitude” that we see the world as it really is and that we perceive objects objectively, as something existing outside our consciousness.</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ead, Husserl believed that our thoughts were inherently related to an object.</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henomenological reduction”: we must reduce the external world to the contents of our consciousness alon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1:33:33Z</dcterms:created>
  <dc:creator>Kathryn Henderson</dc:creator>
  <dc:description/>
  <dc:language>en-US</dc:language>
  <cp:lastModifiedBy>Lawrence Public Schools</cp:lastModifiedBy>
  <dcterms:modified xsi:type="dcterms:W3CDTF">2008-11-10T12:59:41Z</dcterms:modified>
  <cp:revision>5</cp:revision>
  <dc:subject/>
  <dc:title>Literary Theory</dc:title>
</cp:coreProperties>
</file>